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DEE0D-62FD-463C-A60F-99B78D0F4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57F2-EC01-4609-8D91-E28111D54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CDD9-C66A-4F25-9C54-B25325883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C7683-D959-442C-B245-860BB77B5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C814B-9B5D-47C6-BB41-D76D0634F6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0B7FA-EE74-48D9-86AE-9AFCD56454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7EAF9-F094-4975-BAD2-99A2CE4EFA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5B65-9E74-4204-A217-1A12828CDB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072D-7FA9-4F47-9EB2-CDDBC882AC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A5670-7598-4AB7-8175-087928CC2E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AA0A4-0E95-4179-891D-9A677A60A9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BD89-0D16-4E02-8EE8-360278671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F9FB-49AB-493D-9A6A-B6C536091B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33F09-941D-4BB9-A606-A59FC6955D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221F7-BBFF-4B7B-BC2F-9F7489497F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4201-E86B-4639-BF95-31AFC8F0AC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4E481-C8A8-4CBA-9B12-3D4D85DE5E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6C4-316F-4939-8B59-48A74ED5FD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A2A-2BFA-4661-8217-AF14FDBFB9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4CC-23B8-4B74-AEE6-0E02D71B14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4CB-363A-4F41-9404-3452B4F552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03BD-FE1B-4BAC-A409-7B3929ADDA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AAE2-8023-4180-9EA6-C2ADED9C1E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6DA-5AC7-4558-9C09-17FBD9E2C7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DD8-580C-4483-AB34-45AB57F621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363-E4D9-4A5E-A400-DDBA3EC2A4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50A9-8FE7-4A3D-A89A-C33A1C03F1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46F-BBFF-4C56-B36A-DC690D30E5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9499-1064-4435-8901-7A6AF230F3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1B4-2A61-48F5-97EB-C27076CE5D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D91C5-EEBA-4DD2-8DF0-E07BDC959E2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37D1C-4782-4F2C-9EC1-3ADCCD59F2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3E35F-43D2-46E5-83C6-333D0AA57B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1999-D654-44AD-B9AE-190EC977F99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E5006-3E9B-4AF4-A21E-5F1C78BC45E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081FF-1F5F-4369-91BE-3ECEF1C6B30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C1B04-91B9-4334-9278-A9F665FEE9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FD91F-3C64-4776-A63A-913BE05A2B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0F593-DF82-455D-A6A2-6036F28A363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377B4-2A96-4534-A11E-A71E42A5D2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5A344-FBB7-4BF8-B093-B231776BC9C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C3CF47-AE3C-4181-A737-8DBFE685C1A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D76ED-2141-4221-A99A-1DDE2039E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A5D9-751E-437F-82B8-C92E7ABC7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0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F220-4C40-41D5-877D-3D4C03056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D1B7-41CF-4A95-A11B-6864BAA20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3003-A491-495D-95DB-9A215B7DC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DF7F-69AC-4BF2-8877-9CC85C8C6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569880"/>
            <a:ext cx="8542080" cy="1052280"/>
            <a:chOff x="76320" y="569880"/>
            <a:chExt cx="8542080" cy="1052280"/>
          </a:xfrm>
        </p:grpSpPr>
        <p:sp>
          <p:nvSpPr>
            <p:cNvPr id="1" name=""/>
            <p:cNvSpPr/>
            <p:nvPr/>
          </p:nvSpPr>
          <p:spPr>
            <a:xfrm>
              <a:off x="366840" y="6778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49520" y="6778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0680" y="11001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0400" y="11001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10270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11360" y="5698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92040" y="1360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238880" y="6434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4821-C4B7-4AEB-A886-36F04EA7A12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F062-206A-4B2B-B96D-CE7B3CD2D5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76320" y="569880"/>
            <a:ext cx="8542080" cy="1052280"/>
            <a:chOff x="76320" y="569880"/>
            <a:chExt cx="8542080" cy="1052280"/>
          </a:xfrm>
        </p:grpSpPr>
        <p:sp>
          <p:nvSpPr>
            <p:cNvPr id="97" name=""/>
            <p:cNvSpPr/>
            <p:nvPr/>
          </p:nvSpPr>
          <p:spPr>
            <a:xfrm>
              <a:off x="366840" y="67788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9520" y="67788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0680" y="110016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0400" y="110016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320" y="102708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1360" y="56988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2040" y="136044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3"/>
          </p:nvPr>
        </p:nvSpPr>
        <p:spPr>
          <a:xfrm>
            <a:off x="7238880" y="6434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D843-3822-463D-B9DE-E7F8095D04F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44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45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8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A81C-4234-42CE-A971-324D0048D5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2093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dictive Runtime Analysis: Datarac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Formal  Methods in System Design– CS47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rigore Ros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D644F-B534-4692-AAFA-C3707946E9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1548360" y="24130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16400" y="29322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540800" y="34034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67720" y="4608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3800" y="50799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61960" y="56134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724280" y="2352600"/>
            <a:ext cx="4038840" cy="3209760"/>
            <a:chOff x="4724280" y="2352600"/>
            <a:chExt cx="4038840" cy="3209760"/>
          </a:xfrm>
        </p:grpSpPr>
        <p:sp>
          <p:nvSpPr>
            <p:cNvPr id="297" name="Cloud"/>
            <p:cNvSpPr/>
            <p:nvPr/>
          </p:nvSpPr>
          <p:spPr>
            <a:xfrm>
              <a:off x="4724280" y="2352600"/>
              <a:ext cx="4038840" cy="183852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2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rot="18889800">
              <a:off x="5219280" y="369540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28600" y="2819160"/>
            <a:ext cx="4038480" cy="3133800"/>
            <a:chOff x="228600" y="2819160"/>
            <a:chExt cx="4038480" cy="3133800"/>
          </a:xfrm>
        </p:grpSpPr>
        <p:sp>
          <p:nvSpPr>
            <p:cNvPr id="300" name="Cloud"/>
            <p:cNvSpPr/>
            <p:nvPr/>
          </p:nvSpPr>
          <p:spPr>
            <a:xfrm>
              <a:off x="228600" y="4114800"/>
              <a:ext cx="4038480" cy="183816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1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 rot="2710200">
              <a:off x="799920" y="316116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-360 h 1523880"/>
                <a:gd name="textAreaBottom" fmla="*/ 15238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64D-910E-4372-A1D0-AC377414E2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1482840" y="2413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16400" y="29322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5280" y="34034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02200" y="460836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13800" y="50799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896800" y="561348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4724280" y="2352600"/>
            <a:ext cx="4038840" cy="3209760"/>
            <a:chOff x="4724280" y="2352600"/>
            <a:chExt cx="4038840" cy="3209760"/>
          </a:xfrm>
        </p:grpSpPr>
        <p:sp>
          <p:nvSpPr>
            <p:cNvPr id="312" name="Cloud"/>
            <p:cNvSpPr/>
            <p:nvPr/>
          </p:nvSpPr>
          <p:spPr>
            <a:xfrm>
              <a:off x="4724280" y="2352600"/>
              <a:ext cx="4038840" cy="183852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2) = {mutex2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rot="18889800">
              <a:off x="5219280" y="369540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28600" y="2819160"/>
            <a:ext cx="4038480" cy="3133800"/>
            <a:chOff x="228600" y="2819160"/>
            <a:chExt cx="4038480" cy="3133800"/>
          </a:xfrm>
        </p:grpSpPr>
        <p:sp>
          <p:nvSpPr>
            <p:cNvPr id="315" name="Cloud"/>
            <p:cNvSpPr/>
            <p:nvPr/>
          </p:nvSpPr>
          <p:spPr>
            <a:xfrm>
              <a:off x="228600" y="4114800"/>
              <a:ext cx="4038480" cy="1838160"/>
            </a:xfrm>
            <a:prstGeom prst="pi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(T1) = {mutex1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(v) = {mutex1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 flipV="1" rot="2710200">
              <a:off x="799920" y="3161160"/>
              <a:ext cx="1600200" cy="1523880"/>
            </a:xfrm>
            <a:custGeom>
              <a:avLst/>
              <a:gdLst>
                <a:gd name="textAreaLeft" fmla="*/ -360 w 1600200"/>
                <a:gd name="textAreaRight" fmla="*/ 1600200 w 1600200"/>
                <a:gd name="textAreaTop" fmla="*/ -360 h 1523880"/>
                <a:gd name="textAreaBottom" fmla="*/ 152388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843" y="9788"/>
                  </a:moveTo>
                  <a:arcTo wR="-6042" hR="-6042" stAng="-10221505" swAng="-6982119"/>
                  <a:lnTo>
                    <a:pt x="7692" y="457"/>
                  </a:lnTo>
                  <a:arcTo wR="10800" hR="10800" stAng="-6403624" swAng="6982119"/>
                  <a:lnTo>
                    <a:pt x="24109" y="13061"/>
                  </a:lnTo>
                  <a:lnTo>
                    <a:pt x="18251" y="17218"/>
                  </a:lnTo>
                  <a:lnTo>
                    <a:pt x="14095" y="11360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3529800" y="6027840"/>
            <a:ext cx="214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arnin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C8E5-2A21-4E52-8059-0EF02EF723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Improv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vars are usually initialized without a 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-shared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shared vars are usually written at initialization and are read-only there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d-write 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 shared var to have multiple readers but only a single wri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7D9-3A8D-4143-B52C-818C7D026A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M for each vari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1981080" y="1600200"/>
            <a:ext cx="1447920" cy="838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3352680"/>
            <a:ext cx="1447920" cy="8384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5562720"/>
            <a:ext cx="1447920" cy="838080"/>
          </a:xfrm>
          <a:prstGeom prst="ellipse">
            <a:avLst/>
          </a:prstGeom>
          <a:solidFill>
            <a:srgbClr val="fbf507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38680" y="3352680"/>
            <a:ext cx="1447920" cy="838440"/>
          </a:xfrm>
          <a:prstGeom prst="ellipse">
            <a:avLst/>
          </a:prstGeom>
          <a:solidFill>
            <a:srgbClr val="fd2e05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4"/>
            <a:endCxn id="322" idx="0"/>
          </p:cNvCxnSpPr>
          <p:nvPr/>
        </p:nvCxnSpPr>
        <p:spPr>
          <a:xfrm>
            <a:off x="2704680" y="2438280"/>
            <a:ext cx="10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22" idx="4"/>
            <a:endCxn id="323" idx="0"/>
          </p:cNvCxnSpPr>
          <p:nvPr/>
        </p:nvCxnSpPr>
        <p:spPr>
          <a:xfrm>
            <a:off x="2704680" y="4191120"/>
            <a:ext cx="1080" cy="1372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23" idx="6"/>
            <a:endCxn id="324" idx="3"/>
          </p:cNvCxnSpPr>
          <p:nvPr/>
        </p:nvCxnSpPr>
        <p:spPr>
          <a:xfrm flipV="1">
            <a:off x="3428640" y="4068360"/>
            <a:ext cx="2423160" cy="1913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22" idx="6"/>
            <a:endCxn id="324" idx="2"/>
          </p:cNvCxnSpPr>
          <p:nvPr/>
        </p:nvCxnSpPr>
        <p:spPr>
          <a:xfrm>
            <a:off x="3429000" y="3771720"/>
            <a:ext cx="22104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2" idx="1"/>
            <a:endCxn id="322" idx="3"/>
          </p:cNvCxnSpPr>
          <p:nvPr/>
        </p:nvCxnSpPr>
        <p:spPr>
          <a:xfrm flipH="1" rot="16200000">
            <a:off x="1897560" y="3769920"/>
            <a:ext cx="594360" cy="2520"/>
          </a:xfrm>
          <a:prstGeom prst="curvedConnector5">
            <a:avLst>
              <a:gd name="adj1" fmla="val -59090"/>
              <a:gd name="adj2" fmla="val -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3" idx="1"/>
            <a:endCxn id="323" idx="3"/>
          </p:cNvCxnSpPr>
          <p:nvPr/>
        </p:nvCxnSpPr>
        <p:spPr>
          <a:xfrm flipH="1" rot="16200000">
            <a:off x="1897560" y="5979600"/>
            <a:ext cx="594360" cy="2520"/>
          </a:xfrm>
          <a:prstGeom prst="curvedConnector5">
            <a:avLst>
              <a:gd name="adj1" fmla="val -59090"/>
              <a:gd name="adj2" fmla="val -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4" idx="7"/>
            <a:endCxn id="324" idx="5"/>
          </p:cNvCxnSpPr>
          <p:nvPr/>
        </p:nvCxnSpPr>
        <p:spPr>
          <a:xfrm flipH="1" rot="16200000">
            <a:off x="6577560" y="3769920"/>
            <a:ext cx="594360" cy="2520"/>
          </a:xfrm>
          <a:prstGeom prst="curvedConnector5">
            <a:avLst>
              <a:gd name="adj1" fmla="val -59090"/>
              <a:gd name="adj2" fmla="val 46100000"/>
              <a:gd name="adj3" fmla="val -5909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2238840" y="25909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669400" y="434340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w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0" y="39783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,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rst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0400" y="5638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668040" y="2895480"/>
            <a:ext cx="189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w thr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12040" y="55627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773840" y="2590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d,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019920" y="5257800"/>
            <a:ext cx="380880" cy="228600"/>
          </a:xfrm>
          <a:prstGeom prst="rect">
            <a:avLst/>
          </a:prstGeom>
          <a:solidFill>
            <a:srgbClr val="00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19920" y="6172200"/>
            <a:ext cx="380880" cy="228600"/>
          </a:xfrm>
          <a:prstGeom prst="rect">
            <a:avLst/>
          </a:prstGeom>
          <a:solidFill>
            <a:srgbClr val="fd2e05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19920" y="5715000"/>
            <a:ext cx="380880" cy="228600"/>
          </a:xfrm>
          <a:prstGeom prst="rect">
            <a:avLst/>
          </a:prstGeom>
          <a:solidFill>
            <a:srgbClr val="fbf507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54880" y="5105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554520" y="556272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57040" y="60199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lso w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CBD-BB8E-49F5-B0AE-CF9020D251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example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966280" y="4572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12000" y="50436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60520" y="55767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037560" y="6110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1752480"/>
            <a:ext cx="1981080" cy="609840"/>
          </a:xfrm>
          <a:prstGeom prst="wedgeEllipseCallout">
            <a:avLst>
              <a:gd name="adj1" fmla="val -101361"/>
              <a:gd name="adj2" fmla="val 78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2819520"/>
            <a:ext cx="1981080" cy="609480"/>
          </a:xfrm>
          <a:prstGeom prst="wedgeEllipseCallout">
            <a:avLst>
              <a:gd name="adj1" fmla="val -101361"/>
              <a:gd name="adj2" fmla="val 78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2208960" y="3886200"/>
            <a:ext cx="2971800" cy="838080"/>
          </a:xfrm>
          <a:prstGeom prst="wedgeEllipseCallout">
            <a:avLst>
              <a:gd name="adj1" fmla="val -75324"/>
              <a:gd name="adj2" fmla="val 109467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mutex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208960" y="4952880"/>
            <a:ext cx="2971800" cy="838440"/>
          </a:xfrm>
          <a:prstGeom prst="wedgeEllipseCallout">
            <a:avLst>
              <a:gd name="adj1" fmla="val -73453"/>
              <a:gd name="adj2" fmla="val -8712"/>
            </a:avLst>
          </a:pr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-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mutex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208960" y="5943600"/>
            <a:ext cx="2971800" cy="838080"/>
          </a:xfrm>
          <a:prstGeom prst="wedgeEllipseCallout">
            <a:avLst>
              <a:gd name="adj1" fmla="val -73453"/>
              <a:gd name="adj2" fmla="val -8712"/>
            </a:avLst>
          </a:prstGeom>
          <a:solidFill>
            <a:srgbClr val="ff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hared-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(v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{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7CD6-F29E-4819-B789-1E2742A86D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250" autoRev="1" fill="hold"/>
                                        <p:tgtEl>
                                          <p:spTgt spid="3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: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3916440"/>
            <a:ext cx="8229600" cy="2484360"/>
            <a:chOff x="457200" y="3916440"/>
            <a:chExt cx="8229600" cy="2484360"/>
          </a:xfrm>
        </p:grpSpPr>
        <p:sp>
          <p:nvSpPr>
            <p:cNvPr id="363" name=""/>
            <p:cNvSpPr/>
            <p:nvPr/>
          </p:nvSpPr>
          <p:spPr>
            <a:xfrm>
              <a:off x="457200" y="3962520"/>
              <a:ext cx="8229600" cy="24382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3623040" y="4114800"/>
              <a:ext cx="4928400" cy="2206080"/>
              <a:chOff x="3623040" y="4114800"/>
              <a:chExt cx="4928400" cy="2206080"/>
            </a:xfrm>
          </p:grpSpPr>
          <p:sp>
            <p:nvSpPr>
              <p:cNvPr id="365" name=""/>
              <p:cNvSpPr/>
              <p:nvPr/>
            </p:nvSpPr>
            <p:spPr>
              <a:xfrm>
                <a:off x="7021440" y="4406760"/>
                <a:ext cx="685440" cy="1524240"/>
              </a:xfrm>
              <a:custGeom>
                <a:avLst/>
                <a:gdLst>
                  <a:gd name="textAreaLeft" fmla="*/ 55080 w 685440"/>
                  <a:gd name="textAreaRight" fmla="*/ 630360 w 685440"/>
                  <a:gd name="textAreaTop" fmla="*/ 55080 h 1524240"/>
                  <a:gd name="textAreaBottom" fmla="*/ 1469160 h 1524240"/>
                </a:gdLst>
                <a:ahLst/>
                <a:rect l="textAreaLeft" t="textAreaTop" r="textAreaRight" b="textAreaBottom"/>
                <a:pathLst>
                  <a:path w="21600" h="48019">
                    <a:moveTo>
                      <a:pt x="5956" y="0"/>
                    </a:moveTo>
                    <a:arcTo wR="5956" hR="5956" stAng="16200000" swAng="-5400000"/>
                    <a:lnTo>
                      <a:pt x="0" y="42063"/>
                    </a:lnTo>
                    <a:arcTo wR="5956" hR="5956" stAng="10800000" swAng="-5400000"/>
                    <a:lnTo>
                      <a:pt x="15644" y="48019"/>
                    </a:lnTo>
                    <a:arcTo wR="5956" hR="5956" stAng="5400000" swAng="-5400000"/>
                    <a:lnTo>
                      <a:pt x="21600" y="5956"/>
                    </a:lnTo>
                    <a:arcTo wR="5956" hR="5956" stAng="0" swAng="-5400000"/>
                    <a:close/>
                  </a:path>
                </a:pathLst>
              </a:custGeom>
              <a:solidFill>
                <a:srgbClr val="008000">
                  <a:alpha val="50000"/>
                </a:srgbClr>
              </a:solidFill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Tahoma"/>
                  </a:rPr>
                  <a:t>v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27680" y="4114800"/>
                <a:ext cx="3617280" cy="588960"/>
              </a:xfrm>
              <a:custGeom>
                <a:avLst/>
                <a:gdLst/>
                <a:ahLst/>
                <a:rect l="l" t="t" r="r" b="b"/>
                <a:pathLst>
                  <a:path w="2279" h="371">
                    <a:moveTo>
                      <a:pt x="0" y="218"/>
                    </a:moveTo>
                    <a:cubicBezTo>
                      <a:pt x="108" y="242"/>
                      <a:pt x="396" y="349"/>
                      <a:pt x="647" y="360"/>
                    </a:cubicBezTo>
                    <a:cubicBezTo>
                      <a:pt x="898" y="371"/>
                      <a:pt x="1235" y="342"/>
                      <a:pt x="1507" y="282"/>
                    </a:cubicBezTo>
                    <a:cubicBezTo>
                      <a:pt x="1779" y="222"/>
                      <a:pt x="2118" y="59"/>
                      <a:pt x="2279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295960" y="418464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971960" y="4697280"/>
                <a:ext cx="3555720" cy="517680"/>
              </a:xfrm>
              <a:custGeom>
                <a:avLst/>
                <a:gdLst/>
                <a:ahLst/>
                <a:rect l="l" t="t" r="r" b="b"/>
                <a:pathLst>
                  <a:path w="2240" h="326">
                    <a:moveTo>
                      <a:pt x="0" y="242"/>
                    </a:moveTo>
                    <a:cubicBezTo>
                      <a:pt x="108" y="254"/>
                      <a:pt x="386" y="326"/>
                      <a:pt x="647" y="313"/>
                    </a:cubicBezTo>
                    <a:cubicBezTo>
                      <a:pt x="908" y="300"/>
                      <a:pt x="1299" y="216"/>
                      <a:pt x="1565" y="164"/>
                    </a:cubicBezTo>
                    <a:cubicBezTo>
                      <a:pt x="1831" y="112"/>
                      <a:pt x="2099" y="34"/>
                      <a:pt x="2240" y="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23040" y="487044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995720" y="5526000"/>
                <a:ext cx="3555720" cy="459000"/>
              </a:xfrm>
              <a:custGeom>
                <a:avLst/>
                <a:gdLst/>
                <a:ahLst/>
                <a:rect l="l" t="t" r="r" b="b"/>
                <a:pathLst>
                  <a:path w="2240" h="289">
                    <a:moveTo>
                      <a:pt x="0" y="289"/>
                    </a:moveTo>
                    <a:cubicBezTo>
                      <a:pt x="125" y="255"/>
                      <a:pt x="500" y="130"/>
                      <a:pt x="753" y="83"/>
                    </a:cubicBezTo>
                    <a:cubicBezTo>
                      <a:pt x="1006" y="36"/>
                      <a:pt x="1273" y="8"/>
                      <a:pt x="1521" y="4"/>
                    </a:cubicBezTo>
                    <a:cubicBezTo>
                      <a:pt x="1769" y="0"/>
                      <a:pt x="2090" y="49"/>
                      <a:pt x="2240" y="61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67520" y="5861160"/>
                <a:ext cx="137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(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,L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2349360" y="391644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719360" y="55497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11960" y="4572000"/>
              <a:ext cx="20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false ala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31440" y="23004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1,L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78240" y="28195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24240" y="32907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2,L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679560" y="2286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2,L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726000" y="28051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672000" y="3276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3,L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579720" y="228600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L3,L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621840" y="280512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72520" y="327672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L1,L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256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2664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50840" y="161460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C5F-977E-45F3-A347-C41E5FE130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cise datarace detection proced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time/space expensive than Era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rack of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ome of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memory ac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 new read/write event is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it against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previous ac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the new memory access only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if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7B4-81C7-4D12-B0B9-9BBBA5F6EE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Database of ev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 a database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storing tu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, R/W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variable or memory 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n execution thread accessing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set of current locks held by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/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lag giving the type of access (read or wr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ly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emp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E331-9368-4857-9751-96788D1714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se that a thread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holding lock set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is seen to perform a read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r a write (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of a variabl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e the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cases can be distinguished, but before that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3BD-6FDD-4DC8-B7FE-5D26DE86FC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… major go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Go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 effective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fore, if for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 = (v : T, L, R/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just received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’ = (v : T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lready in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simply discarded, because any possible warning message (datarace) involving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ould be reported because o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F73-9A65-4D53-8A2A-A24C5679BB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tive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8458200" y="594360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291520" y="2849400"/>
            <a:ext cx="824040" cy="2494080"/>
          </a:xfrm>
          <a:custGeom>
            <a:avLst/>
            <a:gdLst/>
            <a:ahLst/>
            <a:rect l="l" t="t" r="r" b="b"/>
            <a:pathLst>
              <a:path w="519" h="1571">
                <a:moveTo>
                  <a:pt x="519" y="5"/>
                </a:moveTo>
                <a:cubicBezTo>
                  <a:pt x="436" y="33"/>
                  <a:pt x="484" y="25"/>
                  <a:pt x="375" y="14"/>
                </a:cubicBezTo>
                <a:cubicBezTo>
                  <a:pt x="317" y="0"/>
                  <a:pt x="261" y="4"/>
                  <a:pt x="204" y="23"/>
                </a:cubicBezTo>
                <a:cubicBezTo>
                  <a:pt x="180" y="59"/>
                  <a:pt x="167" y="53"/>
                  <a:pt x="132" y="77"/>
                </a:cubicBezTo>
                <a:cubicBezTo>
                  <a:pt x="126" y="86"/>
                  <a:pt x="122" y="96"/>
                  <a:pt x="114" y="104"/>
                </a:cubicBezTo>
                <a:cubicBezTo>
                  <a:pt x="106" y="112"/>
                  <a:pt x="93" y="113"/>
                  <a:pt x="87" y="122"/>
                </a:cubicBezTo>
                <a:cubicBezTo>
                  <a:pt x="77" y="138"/>
                  <a:pt x="69" y="176"/>
                  <a:pt x="69" y="176"/>
                </a:cubicBezTo>
                <a:cubicBezTo>
                  <a:pt x="66" y="203"/>
                  <a:pt x="60" y="230"/>
                  <a:pt x="60" y="257"/>
                </a:cubicBezTo>
                <a:cubicBezTo>
                  <a:pt x="60" y="272"/>
                  <a:pt x="65" y="287"/>
                  <a:pt x="69" y="302"/>
                </a:cubicBezTo>
                <a:cubicBezTo>
                  <a:pt x="78" y="333"/>
                  <a:pt x="93" y="413"/>
                  <a:pt x="123" y="437"/>
                </a:cubicBezTo>
                <a:cubicBezTo>
                  <a:pt x="130" y="443"/>
                  <a:pt x="141" y="443"/>
                  <a:pt x="150" y="446"/>
                </a:cubicBezTo>
                <a:cubicBezTo>
                  <a:pt x="177" y="486"/>
                  <a:pt x="213" y="514"/>
                  <a:pt x="240" y="554"/>
                </a:cubicBezTo>
                <a:cubicBezTo>
                  <a:pt x="269" y="669"/>
                  <a:pt x="216" y="778"/>
                  <a:pt x="105" y="815"/>
                </a:cubicBezTo>
                <a:cubicBezTo>
                  <a:pt x="78" y="812"/>
                  <a:pt x="50" y="815"/>
                  <a:pt x="24" y="806"/>
                </a:cubicBezTo>
                <a:cubicBezTo>
                  <a:pt x="14" y="802"/>
                  <a:pt x="7" y="790"/>
                  <a:pt x="6" y="779"/>
                </a:cubicBezTo>
                <a:cubicBezTo>
                  <a:pt x="0" y="703"/>
                  <a:pt x="21" y="666"/>
                  <a:pt x="87" y="644"/>
                </a:cubicBezTo>
                <a:cubicBezTo>
                  <a:pt x="148" y="653"/>
                  <a:pt x="190" y="656"/>
                  <a:pt x="213" y="725"/>
                </a:cubicBezTo>
                <a:cubicBezTo>
                  <a:pt x="219" y="743"/>
                  <a:pt x="231" y="779"/>
                  <a:pt x="231" y="779"/>
                </a:cubicBezTo>
                <a:cubicBezTo>
                  <a:pt x="223" y="893"/>
                  <a:pt x="208" y="993"/>
                  <a:pt x="186" y="1103"/>
                </a:cubicBezTo>
                <a:cubicBezTo>
                  <a:pt x="177" y="1209"/>
                  <a:pt x="180" y="1291"/>
                  <a:pt x="213" y="1391"/>
                </a:cubicBezTo>
                <a:cubicBezTo>
                  <a:pt x="226" y="1431"/>
                  <a:pt x="259" y="1448"/>
                  <a:pt x="267" y="1472"/>
                </a:cubicBezTo>
                <a:cubicBezTo>
                  <a:pt x="281" y="1513"/>
                  <a:pt x="283" y="1542"/>
                  <a:pt x="312" y="15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ilm"/>
          <p:cNvSpPr/>
          <p:nvPr/>
        </p:nvSpPr>
        <p:spPr>
          <a:xfrm rot="14303400">
            <a:off x="7509960" y="4376160"/>
            <a:ext cx="447480" cy="2819520"/>
          </a:xfrm>
          <a:prstGeom prst="pie">
            <a:avLst/>
          </a:prstGeom>
          <a:solidFill>
            <a:srgbClr val="ff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629560" y="5343480"/>
            <a:ext cx="216000" cy="642960"/>
          </a:xfrm>
          <a:custGeom>
            <a:avLst/>
            <a:gdLst/>
            <a:ahLst/>
            <a:rect l="l" t="t" r="r" b="b"/>
            <a:pathLst>
              <a:path w="136" h="405">
                <a:moveTo>
                  <a:pt x="90" y="0"/>
                </a:moveTo>
                <a:cubicBezTo>
                  <a:pt x="113" y="68"/>
                  <a:pt x="136" y="54"/>
                  <a:pt x="108" y="153"/>
                </a:cubicBezTo>
                <a:cubicBezTo>
                  <a:pt x="105" y="165"/>
                  <a:pt x="89" y="170"/>
                  <a:pt x="81" y="180"/>
                </a:cubicBezTo>
                <a:cubicBezTo>
                  <a:pt x="61" y="206"/>
                  <a:pt x="37" y="230"/>
                  <a:pt x="27" y="261"/>
                </a:cubicBezTo>
                <a:cubicBezTo>
                  <a:pt x="0" y="343"/>
                  <a:pt x="9" y="296"/>
                  <a:pt x="9" y="4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610480" y="5029200"/>
            <a:ext cx="15264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83059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bug potentials from 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ccessful ru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: dataraces, dead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cale well, very f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ften find the bu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False positives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AC54-D75B-4E80-A568-856617F046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… colors and sha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use distinct colors for distinct thre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use shapes for read/wr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s for r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s for wr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xagons for “don’t car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, the scenario on the previous slide can be drawn as follow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5715000" y="4419720"/>
            <a:ext cx="2971800" cy="2209680"/>
          </a:xfrm>
          <a:prstGeom prst="hexagon">
            <a:avLst>
              <a:gd name="adj" fmla="val 33623"/>
              <a:gd name="vf" fmla="val 11547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99320" y="437364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29400" y="5181480"/>
            <a:ext cx="1143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181280" y="5211720"/>
            <a:ext cx="4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2120" y="4724280"/>
            <a:ext cx="1371600" cy="9907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62320" y="5486400"/>
            <a:ext cx="1295280" cy="121932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85800" y="1676520"/>
            <a:ext cx="7621200" cy="3583080"/>
            <a:chOff x="685800" y="1676520"/>
            <a:chExt cx="7621200" cy="3583080"/>
          </a:xfrm>
        </p:grpSpPr>
        <p:sp>
          <p:nvSpPr>
            <p:cNvPr id="404" name=""/>
            <p:cNvSpPr/>
            <p:nvPr/>
          </p:nvSpPr>
          <p:spPr>
            <a:xfrm>
              <a:off x="685800" y="1676520"/>
              <a:ext cx="6324480" cy="2895480"/>
            </a:xfrm>
            <a:prstGeom prst="cloudCallout">
              <a:avLst>
                <a:gd name="adj1" fmla="val 15111"/>
                <a:gd name="adj2" fmla="val 84703"/>
              </a:avLst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Hm, if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L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oes not intersect the lock set of another thread accessing same variable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v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then </a:t>
              </a: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L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is not going to intersect it either, so a warning will be reported anyway.  So I can discard the tuple just received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30480" y="3946680"/>
              <a:ext cx="776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358-3516-4D5D-A1C7-8DBF5419C5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’, R/W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3200400"/>
            <a:ext cx="3124440" cy="25909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417000" y="45720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22800" y="35812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971800" y="3429000"/>
            <a:ext cx="137160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666880" y="449568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81480" y="4038480"/>
            <a:ext cx="1905120" cy="1447920"/>
          </a:xfrm>
          <a:prstGeom prst="hexagon">
            <a:avLst>
              <a:gd name="adj" fmla="val 32894"/>
              <a:gd name="vf" fmla="val 115470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723200" y="2909880"/>
            <a:ext cx="8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022F-F246-4AC1-83EA-02C8E37EE1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read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5334120" y="2438280"/>
            <a:ext cx="2743200" cy="2286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943600" y="3200400"/>
            <a:ext cx="144792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05760" y="19051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4EA5-DFE2-4C36-95DC-69B33E9911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3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therwise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read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Checking read conflict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 = (v : T, L, R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a read conflict f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ists 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some 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04E-C0B2-4516-B8F0-ECBA692419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ubcase 1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6417000" y="45720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922800" y="358128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971800" y="3429000"/>
            <a:ext cx="137160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66880" y="449568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86400" y="4343400"/>
            <a:ext cx="1600200" cy="1066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29200" y="3657600"/>
            <a:ext cx="2590920" cy="22096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29600" y="2895480"/>
            <a:ext cx="8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EDD1-3CFC-4D55-A3E3-6A05DFDF79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2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2971800"/>
            <a:ext cx="1752480" cy="76212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410080" y="2590920"/>
            <a:ext cx="2210040" cy="19810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932360" y="24829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8080" y="3657600"/>
            <a:ext cx="1752840" cy="91440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681-5C73-4315-B9C2-2B78934FC4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3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’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mo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6872040" y="350532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912360" y="251460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81480" y="2438280"/>
            <a:ext cx="2819520" cy="2133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843440" y="2133720"/>
            <a:ext cx="892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FC6-A4BC-47C8-90A5-1002E94BBF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ase 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ubcase 4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contains any tu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’, R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{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an mark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to be checked only against reads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heck write conflict of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, L, W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823440" y="3505320"/>
            <a:ext cx="5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60960" y="2514600"/>
            <a:ext cx="43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2971800"/>
            <a:ext cx="1752480" cy="1523880"/>
          </a:xfrm>
          <a:prstGeom prst="rect">
            <a:avLst/>
          </a:prstGeom>
          <a:noFill/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57800" y="2438280"/>
            <a:ext cx="2666880" cy="22100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920" y="3352680"/>
            <a:ext cx="1523880" cy="1143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CC1-5EFB-4BCF-B632-D042684C4F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Precizer: Checking write conflic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tuple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 = (v : T, L, W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a current state of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 write conflict for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xists in </a:t>
            </a:r>
            <a:r>
              <a:rPr b="1" i="1" lang="en-US" sz="40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if and only i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som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R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.t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marked, there is some tupl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v : T’, L’, W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i="1" lang="en-US" sz="3600" spc="-1" strike="noStrike">
                <a:solidFill>
                  <a:srgbClr val="333399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s.t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 ≠ T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L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∩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L’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BEE-8128-46AC-A365-C3D5841DBA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966280" y="190512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23763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960520" y="29098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37560" y="344340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6760" y="3581280"/>
            <a:ext cx="5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16400" y="443376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x : T1, {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04920" y="4343400"/>
            <a:ext cx="2433600" cy="1054080"/>
            <a:chOff x="304920" y="4343400"/>
            <a:chExt cx="2433600" cy="1054080"/>
          </a:xfrm>
        </p:grpSpPr>
        <p:sp>
          <p:nvSpPr>
            <p:cNvPr id="474" name=""/>
            <p:cNvSpPr/>
            <p:nvPr/>
          </p:nvSpPr>
          <p:spPr>
            <a:xfrm>
              <a:off x="676080" y="502920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x : T1, {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4920" y="43434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48480" y="55911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1, {mutex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09600" y="5500800"/>
            <a:ext cx="2433600" cy="1053720"/>
            <a:chOff x="309600" y="5500800"/>
            <a:chExt cx="2433600" cy="1053720"/>
          </a:xfrm>
        </p:grpSpPr>
        <p:sp>
          <p:nvSpPr>
            <p:cNvPr id="478" name=""/>
            <p:cNvSpPr/>
            <p:nvPr/>
          </p:nvSpPr>
          <p:spPr>
            <a:xfrm>
              <a:off x="312480" y="6186240"/>
              <a:ext cx="23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1, {mutex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9600" y="55008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5645880" y="44337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2, {mutex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643360" y="4343400"/>
            <a:ext cx="2433600" cy="1054080"/>
            <a:chOff x="5643360" y="4343400"/>
            <a:chExt cx="2433600" cy="1054080"/>
          </a:xfrm>
        </p:grpSpPr>
        <p:sp>
          <p:nvSpPr>
            <p:cNvPr id="482" name=""/>
            <p:cNvSpPr/>
            <p:nvPr/>
          </p:nvSpPr>
          <p:spPr>
            <a:xfrm>
              <a:off x="5646240" y="5029200"/>
              <a:ext cx="230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2, {mutex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643360" y="434340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6055200" y="57294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x : T2, {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643720" y="5638680"/>
            <a:ext cx="2433600" cy="1054080"/>
            <a:chOff x="5643720" y="5638680"/>
            <a:chExt cx="2433600" cy="1054080"/>
          </a:xfrm>
        </p:grpSpPr>
        <p:sp>
          <p:nvSpPr>
            <p:cNvPr id="486" name=""/>
            <p:cNvSpPr/>
            <p:nvPr/>
          </p:nvSpPr>
          <p:spPr>
            <a:xfrm>
              <a:off x="6014880" y="6324480"/>
              <a:ext cx="156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x : T2, {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43720" y="56386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2438280" y="4952880"/>
            <a:ext cx="3505320" cy="12193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37120" y="5715000"/>
            <a:ext cx="173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0A1-6715-4669-B6E9-32D5C018893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r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905120"/>
            <a:ext cx="7467840" cy="1676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atar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s when two or more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a shared variable, at least one access is a wri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no mechanism is used to prevent simultaneous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4572000"/>
            <a:ext cx="1447560" cy="990720"/>
          </a:xfrm>
          <a:prstGeom prst="ellipse">
            <a:avLst/>
          </a:prstGeom>
          <a:solidFill>
            <a:srgbClr val="fd2e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4572000"/>
            <a:ext cx="1447560" cy="990720"/>
          </a:xfrm>
          <a:prstGeom prst="ellipse">
            <a:avLst/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x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4800600"/>
            <a:ext cx="76176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: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"/>
          <p:cNvCxnSpPr>
            <a:stCxn id="202" idx="6"/>
            <a:endCxn id="204" idx="1"/>
          </p:cNvCxnSpPr>
          <p:nvPr/>
        </p:nvCxnSpPr>
        <p:spPr>
          <a:xfrm>
            <a:off x="3352320" y="506700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6" name=""/>
          <p:cNvCxnSpPr>
            <a:stCxn id="204" idx="3"/>
            <a:endCxn id="203" idx="2"/>
          </p:cNvCxnSpPr>
          <p:nvPr/>
        </p:nvCxnSpPr>
        <p:spPr>
          <a:xfrm>
            <a:off x="4952520" y="506700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205812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7760" y="5410080"/>
            <a:ext cx="11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44320" y="56386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81480" y="518148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589480" y="3809880"/>
            <a:ext cx="44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 Solutions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itors, semaphores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4320" y="6248520"/>
            <a:ext cx="45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2e05"/>
                </a:solidFill>
                <a:latin typeface="Times New Roman"/>
              </a:rPr>
              <a:t>Result after both updates : 2 …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2BE0-DA0F-437D-8544-026CA43376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cizer: exampl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38560" y="22096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1,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78240" y="27288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31360" y="32004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2,m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86320" y="21956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2,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26000" y="27147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579120" y="3186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3,m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486840" y="21956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3,m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21840" y="27147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479640" y="31860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1,m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0256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2664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50840" y="15238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76760" y="3581280"/>
            <a:ext cx="55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32640" y="4357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1, {m1,m2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291600" y="4267080"/>
            <a:ext cx="2446560" cy="1054080"/>
            <a:chOff x="291600" y="4267080"/>
            <a:chExt cx="2446560" cy="1054080"/>
          </a:xfrm>
        </p:grpSpPr>
        <p:sp>
          <p:nvSpPr>
            <p:cNvPr id="506" name=""/>
            <p:cNvSpPr/>
            <p:nvPr/>
          </p:nvSpPr>
          <p:spPr>
            <a:xfrm>
              <a:off x="291600" y="49528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1, {m1,m2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4560" y="42670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3228120" y="4357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2, {m2,m3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187440" y="4267080"/>
            <a:ext cx="2446560" cy="1054080"/>
            <a:chOff x="3187440" y="4267080"/>
            <a:chExt cx="2446560" cy="1054080"/>
          </a:xfrm>
        </p:grpSpPr>
        <p:sp>
          <p:nvSpPr>
            <p:cNvPr id="510" name=""/>
            <p:cNvSpPr/>
            <p:nvPr/>
          </p:nvSpPr>
          <p:spPr>
            <a:xfrm>
              <a:off x="3187440" y="49528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2, {m2,m3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00400" y="42670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6123600" y="43718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(v : T3, {m1,m3}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082920" y="4281480"/>
            <a:ext cx="2446560" cy="1054080"/>
            <a:chOff x="6082920" y="4281480"/>
            <a:chExt cx="2446560" cy="1054080"/>
          </a:xfrm>
        </p:grpSpPr>
        <p:sp>
          <p:nvSpPr>
            <p:cNvPr id="514" name=""/>
            <p:cNvSpPr/>
            <p:nvPr/>
          </p:nvSpPr>
          <p:spPr>
            <a:xfrm>
              <a:off x="6082920" y="496728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(v : T3, {m1,m3}, W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95880" y="4281480"/>
              <a:ext cx="2433600" cy="581400"/>
            </a:xfrm>
            <a:prstGeom prst="rect">
              <a:avLst/>
            </a:prstGeom>
            <a:solidFill>
              <a:srgbClr val="ffffff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41720" y="5835600"/>
            <a:ext cx="48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o conflicts detect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2CAB-A77F-426E-9CC2-39678CB164B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240080" y="5529240"/>
            <a:ext cx="479520" cy="479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3440" y="4995720"/>
            <a:ext cx="2781360" cy="1524240"/>
          </a:xfrm>
          <a:prstGeom prst="roundRect">
            <a:avLst>
              <a:gd name="adj" fmla="val 16667"/>
            </a:avLst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25680" y="4919760"/>
            <a:ext cx="2362320" cy="4572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68880" y="4995720"/>
            <a:ext cx="2857680" cy="1524240"/>
          </a:xfrm>
          <a:prstGeom prst="roundRect">
            <a:avLst>
              <a:gd name="adj" fmla="val 16667"/>
            </a:avLst>
          </a:prstGeom>
          <a:solidFill>
            <a:srgbClr val="fd2e0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1676520"/>
            <a:ext cx="6934320" cy="1981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xample of Datarace in Jav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1285560" y="1676520"/>
            <a:ext cx="167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ell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x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324600" y="4916520"/>
            <a:ext cx="22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ew Cell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2640" y="544032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add(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97560" y="5483160"/>
            <a:ext cx="17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add(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25680" y="6138720"/>
            <a:ext cx="2362320" cy="45720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24600" y="6138720"/>
            <a:ext cx="22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ew Cell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2944800" y="5148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2944800" y="6138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88000" y="6138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88000" y="5148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0760" y="453852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603120" y="453852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68440" y="2430360"/>
            <a:ext cx="18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nchr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nchr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85920" y="243216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get(){return x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add(Cell c){x = x + c.get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14720" y="2427120"/>
            <a:ext cx="44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   get(){return x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add(Cell c){x = x + c.get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11680" y="4049640"/>
            <a:ext cx="8749080" cy="2470680"/>
            <a:chOff x="211680" y="4049640"/>
            <a:chExt cx="8749080" cy="2470680"/>
          </a:xfrm>
        </p:grpSpPr>
        <p:sp>
          <p:nvSpPr>
            <p:cNvPr id="235" name=""/>
            <p:cNvSpPr/>
            <p:nvPr/>
          </p:nvSpPr>
          <p:spPr>
            <a:xfrm>
              <a:off x="3338280" y="4052880"/>
              <a:ext cx="2362320" cy="457200"/>
            </a:xfrm>
            <a:prstGeom prst="rect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37920" y="4049640"/>
              <a:ext cx="23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 = new Object(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804760" y="4278240"/>
              <a:ext cx="5331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00600" y="4278240"/>
              <a:ext cx="4572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1680" y="4952880"/>
              <a:ext cx="2797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synchronized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200" y="4964040"/>
              <a:ext cx="2797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synchronized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333399"/>
                  </a:solidFill>
                  <a:latin typeface="Arial"/>
                </a:rPr>
                <a:t>L</a:t>
              </a: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99"/>
                  </a:solidFill>
                  <a:latin typeface="Times New Roman"/>
                </a:rPr>
                <a:t>}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 txBox="1"/>
          <p:nvPr/>
        </p:nvSpPr>
        <p:spPr>
          <a:xfrm>
            <a:off x="3995640" y="5661000"/>
            <a:ext cx="9907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1270-9CDE-44B8-B219-A2243E04B2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dicting Datar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rument program to emit events of the for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(register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mory_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(register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mory_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e and maintain a knowledge database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,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tate machine,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elatio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rt warning if conflict found in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E2BA-A284-45B7-9454-44B100D479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 re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m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intain a </a:t>
            </a: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happens-befo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rtial order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n all events of all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Within one thread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d edg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(e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,e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xecuted befor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etween 2 thread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dd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(unlock(mutex),lock(mutex))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 unlock executes befor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’s 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wo threads access the same variable and the two accesses are not in 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n warning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5BA9-B838-47DD-A294-9DD757A962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: exampl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546560" y="237636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4600" y="289548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539360" y="336708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66280" y="45720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2000" y="50436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960520" y="55767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2920" y="19051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37560" y="6110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rot="16200000">
            <a:off x="1217880" y="21333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 rot="16200000">
            <a:off x="1217880" y="26668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rot="16200000">
            <a:off x="1217880" y="32000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16200000">
            <a:off x="5637600" y="48002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rot="16200000">
            <a:off x="5637600" y="53337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rot="16200000">
            <a:off x="5637600" y="58672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3657600"/>
            <a:ext cx="2514600" cy="91440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loud"/>
          <p:cNvSpPr/>
          <p:nvPr/>
        </p:nvSpPr>
        <p:spPr>
          <a:xfrm>
            <a:off x="152280" y="3809880"/>
            <a:ext cx="4267440" cy="2859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two accesses of shared variables are in the relation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happens-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D1407-F742-4FC8-BC3A-5D7323BD40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ppens-before: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1546560" y="519588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14600" y="57150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39360" y="618660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2164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89960" y="20574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36040" y="252900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 := v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84200" y="306216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lock(mut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60360" y="1295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hrea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82920" y="47242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61240" y="359568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x := 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16200000">
            <a:off x="1217880" y="49528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16200000">
            <a:off x="1217880" y="54860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rot="16200000">
            <a:off x="1217880" y="60195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rot="16200000">
            <a:off x="5561280" y="228564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rot="16200000">
            <a:off x="5561280" y="281916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 rot="16200000">
            <a:off x="5561280" y="3352680"/>
            <a:ext cx="457200" cy="304920"/>
          </a:xfrm>
          <a:custGeom>
            <a:avLst/>
            <a:gdLst>
              <a:gd name="textAreaLeft" fmla="*/ 360 w 457200"/>
              <a:gd name="textAreaRight" fmla="*/ 457920 w 4572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5401" y="10801"/>
                </a:moveTo>
                <a:arcTo wR="-5399" hR="-5399" stAng="10799363" swAng="-10960547"/>
                <a:lnTo>
                  <a:pt x="12" y="11306"/>
                </a:lnTo>
                <a:arcTo wR="10800" hR="10800" stAng="10638816" swAng="10960547"/>
                <a:lnTo>
                  <a:pt x="24300" y="10797"/>
                </a:lnTo>
                <a:lnTo>
                  <a:pt x="18901" y="16199"/>
                </a:lnTo>
                <a:lnTo>
                  <a:pt x="13499" y="1079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124080" y="3243240"/>
            <a:ext cx="2571840" cy="209088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895480" y="3886200"/>
            <a:ext cx="2895840" cy="990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loud"/>
          <p:cNvSpPr/>
          <p:nvPr/>
        </p:nvSpPr>
        <p:spPr>
          <a:xfrm>
            <a:off x="4724280" y="3922560"/>
            <a:ext cx="4267440" cy="28591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fore, only this second execution reveals the existing datarac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D617-D9CD-43EF-9BFB-F3442AAAF9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0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a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vage,Burrows,Nelson,Sobalvarro,And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Java PathExplor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zed 30,000 lines of code in a few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d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rack of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ndidate loc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tecting each variable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oted by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track of locks held by each thread,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access by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ef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=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L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C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comes empty then warning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A38-3B92-4006-8773-CD47BDEB48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21:52:18Z</dcterms:created>
  <dc:creator>Default</dc:creator>
  <dc:description/>
  <dc:language>en-US</dc:language>
  <cp:lastModifiedBy>Your User Name</cp:lastModifiedBy>
  <dcterms:modified xsi:type="dcterms:W3CDTF">2007-04-17T12:01:15Z</dcterms:modified>
  <cp:revision>145</cp:revision>
  <dc:subject/>
  <dc:title>Experiments in Dynamic Analysis of Programs</dc:title>
</cp:coreProperties>
</file>